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4CC-D898-4737-B81E-73FEF7D1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ADE-9A7A-44E9-9175-1DFE01DF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2A100-9164-49FA-A47E-A99C3087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D0591-9CFD-43AB-80F5-92958943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22FAC-F7F2-4869-BCD2-282F7E83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AB714-66DE-4ECF-8178-8A5C6E2A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D9558-3C1B-41CA-9CF2-534F805E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D0224-40F3-4AA3-A64B-2A9B9FF5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F936E-2E31-497E-A3EC-5FF9AE4A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D19C5-0E93-4144-9C7F-4A11CD63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36FD4-2D97-4BB8-A0ED-5A9CA2DF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E904B-A46B-488A-B434-94284426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ADC-8C51-4ACE-8034-B8C0D7FE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A99CA-9C0E-406B-99D1-5F84143C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78FA0-6619-4E37-9335-6E073BA1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E683E-A31D-4A8B-9C5B-383E8CF5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C3992-D9BF-48EB-96C8-A726BFDF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258E5-56B6-4408-9BC7-D8840A01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F108E-D6B8-436C-89C6-5D65F732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7302A-1107-4EDA-8724-4043A76D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40229-FA7B-4407-BFB7-44EFCF37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53535-CD08-432A-A670-85348AA3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A9635-AFA2-472D-9499-E95C7022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0229-1AE1-41CE-8B8E-EFA65493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7D4C5-FDFC-43BE-8EED-B31B0196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C645C-FC91-4744-B3AA-C665DD4F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3A759-3DCC-4028-952D-07E30CFE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E1321-2630-411B-A064-6A3E8698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63993-ED93-47AF-9EC2-CAAC6ECF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58878-45C8-4499-9474-E53E6819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22778-26EF-43ED-AB39-FA6A4327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7821B-E930-4F82-A3B8-32CE4373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44EC1-BC32-4283-AF73-8022435E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2EBD7-B7E3-4841-8182-3B7ED16D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BCDD-DB46-413B-BDF1-A9667F7A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CDB19-7A86-4F56-8CEB-CF74F123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917D3-64EF-498C-8D18-326B942A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698C1-FEE9-404E-8455-E9A1E2F2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3F8A9-D9E1-4AAB-8D0C-F3436643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9852E-6EFA-4FCC-9031-BA651B31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4C4F1-003B-43BD-B142-617171AB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CFB5E-C894-4031-B91E-9C948E8F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E468F-48F6-4615-993C-1B397B3C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7D4D1-B19A-4C05-A4A6-3D2FDEE8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814D0-8CE4-468B-AEA1-20CE61AE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355C-4937-4D64-A69F-6BFC3C56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BBA75-7FED-41E6-AFD6-5F515282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35C2A-E438-4928-BF6D-C62916C8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42DBA-9D1D-41B8-8147-996F8A40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C96F0-2209-4077-A082-6D350B18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0F7BA-8EED-43AD-A791-6F7677AD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968A88-C9C4-4A24-9F10-559C0A54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78A8E-9204-44A7-B50C-66E9A72D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A68B43-8543-4D84-91B1-19D2E7F7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88F13-14BD-485C-847C-A0549A29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A1999-5858-4DC5-BDEF-B678488E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F100-AF65-4F0A-9E0C-0144A226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7E192-9D83-4645-8DA8-D8CA48A6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3FBAC-6477-41DA-8007-D019E0B1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B1F5CA-5C45-4318-8CF3-D1E21FB5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70262-86DF-4DE2-9911-13437D72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F457A-D8B1-42CE-A4AF-1DD0E387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FBDC6-5370-4BFE-8334-103B8E37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60000-1721-4EDB-A346-D5E2DAA6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E38AC-AEB7-4026-B988-2329859E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139017-2B9E-4C13-9BAC-9DCA120F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7C545C-9244-4886-92D2-B8351996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4CBF-B3F5-4020-81E0-49D0209B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36C26-4F34-4E33-8C98-37B71CA8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B2BE78-AD93-4D90-AC10-5B071FB6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38EABF-F555-4612-85B4-3F9DB02B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2F6F61-881E-4850-9DA3-C4E01CD9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93122-F756-4E75-8ADF-1C48C999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76422E-B76C-4754-8F9F-D7B3956C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E006E0-A266-423F-A1BC-DB41D089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B3D1F7-744A-4BBD-9501-341A9C94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C27876-E461-4583-8C28-621E99DC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C221A1-722F-4B44-BC65-47D868B5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067B-F289-4F8B-B5C9-B3DF6D41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8CD2F8-48E5-4A85-8249-D88E1427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2A772B-F63D-419C-897A-305F186C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A5545B-0480-45C7-8AF4-A8A6557F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8F1FEC-1F74-4378-9D83-42D20637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612489-0CE0-4068-8E92-175FBB96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CF2A60-C596-4DE8-A0F5-AD3965A5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C2F52-CE5B-43E5-85B5-E2A69825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9F0A20-5309-4B93-B870-0E6BB3F3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DA9C25-4B68-428B-A763-6EE08456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76AFD6-74F2-4581-B7FD-87DC51B6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960C-6596-4CCD-A793-D207AE92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D0ECD9-869F-4804-BAB9-13B44437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10708-C71A-4449-A50D-69DA279F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597B6C-5940-4C7B-924B-6EAA988B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F5EDCB-E9EA-4AF6-94EC-23F219A9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DEA4C9-50F3-4E70-A244-D09B0111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15C7CE-EE68-4393-BCD6-C33A4B70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9960FE-11BC-439D-8758-3C72D619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F2A138-9F42-41CD-B655-4DBA0524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D1036B-387B-49C1-8B5B-F770FA66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DA198A-9E0D-47F0-A798-013A1D26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DC55-1D30-4E06-8E95-F0C5C176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BF3580-7F2A-4E65-8CEA-597B2E2C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D537F9-9846-4C44-8308-692F7D44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0380AE-92CE-4C82-937B-D9DA09BB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408FBE-31E3-4F7D-8AEF-45EB6E4A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2D013B-40DE-4CF9-9F8F-572B9D25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CA0426-2102-4883-9AD6-B382ADC1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D1189B-CE11-42E8-B30F-1B2EA36D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F966F6-0F19-41AE-B690-CA71ABCD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DA64F9-CF9D-4DFC-BC0C-F448C8D7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119407-A8B9-4426-A298-5C61AE55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D244-6126-4610-980A-E3AD78A9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EC5E-49A8-4CA3-B75C-D70EF429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EA8CFC-EF0E-4CEF-9510-D0B4B64D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929EE2-9FA0-421A-A4CF-5B50350D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9B7533-7F08-4AEE-BF57-1B8C9AE0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FDC8A6-A76A-4D6A-8945-87F497D3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06BDEA-5975-497B-B358-A24717F7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24A7B2-4092-4D39-9659-3D8B0676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1F53E2-7873-4235-B46A-4B47B39E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5AD2EF-64F5-49DC-831A-E652A113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0FAC2B-4B70-4E89-BF91-ABE57921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283758-02E7-4332-A3CE-B01C9E5B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1788-2909-47EF-B0CC-BB4BF27E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895ED8-C452-491C-8370-5CB8CC27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B72702-1595-448E-A648-7138A879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5930F5-8F63-4CB8-9E6F-A58EEC2B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1DC9E5-CAAA-462B-94F4-9B116A19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38BCCB-7076-4359-BF33-617A61B3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62C225-7A4C-441F-9663-4736AF43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38399B-418D-438E-9A50-A869F0D8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FD1F47-61B3-48DF-B72B-553A90A3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5717A5-E922-4A78-A49B-A19D9519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474359-C422-4E1E-8EEA-5077BABF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0FBB-9A3E-4F47-A18D-0C12E7A2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C0CFD2-BFDA-4B12-8178-0613C631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4C5895-C257-4BAC-BE97-E88E3560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3E07A0-F405-45E3-BFC6-92FB02E2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6DB5DC-8DB6-454B-A73A-02D2E5C7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D101A0-04DA-4AB8-ADB9-1348BE25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1A51D1-A227-4E22-ABFB-3C65C98C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CE6571-CF6A-4A24-AD22-2978F61C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FF4849-E72D-471D-B594-33A0E2BA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628653-D5E5-4AA0-8021-56F8330E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EC9504-CEC2-4E20-B392-C8D0EBF8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A873-C66B-46CB-AADD-5D557459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39ACC0-7405-4756-977A-EA2C9860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442176-DF1F-4637-B0B7-AFB2BA7D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484BF1-7652-43B1-B73C-24DA15E0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80A3EB-E173-4E66-B21C-BBC35E4B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FE5AE8-4F7B-49E8-89F1-75526533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211A61-B825-45A3-9227-30CEC53A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D86253-192B-4DD3-B7BF-4B4062FF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24F4B6-A48B-412A-A5EA-F8FAC657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7B9BD2-B435-4AAD-B958-061ADCE0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89F324-630D-4C06-9751-04F2D88B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5DB3-97C1-4B5E-ACF6-FE06E1A9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9D84F7-12A3-44BF-B775-A6D83BDF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35EFC1-AF6C-4014-AB25-0D31CBA8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4DE1DD-C884-4CCF-A596-A1CBEB1B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6751DB-B93A-44E2-911A-DCD5B26A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42C015-269E-4D46-AEA6-E6B1DCB3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6974D1-FF79-476B-82EC-ACD3B9C5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AFB611-0C28-4066-B5C4-33D4C1B0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1E2EF4-3FF6-4991-A6CE-7C6B7AB4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1B8EA4-26F3-4EB1-94AF-B9AD187B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E5CBF3-9E20-4723-A146-38AFE755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01092-1FF5-490D-905E-29B105D9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88AF7B-B028-4456-9B00-D373ED00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2C8CC4-5950-42E5-85A9-EA878AD4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98942A-1AA9-4404-B31C-B59C886B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5A7CAB-EF91-4454-971E-B1551A0B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51982B-E6D9-4BA5-A174-92C536BC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E8DAB1-AD07-49D8-AD51-5F62E342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564614-75F6-4A0C-9EE8-F60865CC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293D54-BDEF-4D9A-AB38-E59D31D7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E4CA73-702A-4338-9B18-DB5CD390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63EC0F-229B-4D84-AB02-DBC845BC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13D29-F353-4AAB-8E34-36F7452E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5D46DE-6447-4F3B-9085-F6A41F6C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DC8645-5415-4569-BB17-C6292BD7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C627C0-680D-4FAF-A837-8E7B6328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FF3A06-6F46-4875-9880-1FB00B9E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291CE4-BD80-4A29-A7CB-509370F9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42A4D5-115A-438F-AD74-E6217B92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6D7AA5-7011-4060-8C5C-E0D7667E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83F6D5-9980-4494-9179-586E53F4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6D895F-C9CC-43E4-AB31-521095D9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4B420E-29C9-4AE0-B7E2-BF7FDD31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73A12-53EC-44DE-9B23-451E2C4D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E36C03-5DAD-436B-9C68-65DF4B72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38E6FF-0667-42A5-90B6-BC248F86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963C89-39D6-4703-B416-198637A7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25B008-8609-4470-9C91-CB5D9303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99A94D-59D6-4B99-801E-D9824998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81419C-ECC4-4790-BD84-158312C2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3B16AE-E810-49AB-AC1C-039D8B38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8EF16-66F5-4289-A946-98BCFE0E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34CE1-BF3E-4929-B437-CF0B5082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CC5-B873-4A9A-9499-D2805386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765A0-85A4-4EF0-AED1-DE493B29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50F55-BD68-4631-B4EB-FB0733FB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7EAA2-3419-42CC-A2D5-00991C15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B23BA-DBA4-4682-8161-C0AB839E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D67A9-1A96-466F-80EC-C28140CD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A0C9C-FDE4-4139-A5D1-78F40A7D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8D1E5-99DC-4347-8374-51EB4541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28194-B91A-49AE-8E12-A518A0FA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C7524-1FDC-40E7-94F4-730DBA32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503C9-6082-4D15-B47C-4B8EAC65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43BE-0124-4F1D-B64E-3E67B51A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10313-D484-4FA7-A3A9-AC44A5AD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20AF7-51AF-4B78-A006-80DEB973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19124-B8C9-4624-BF08-7F156184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AE5CB-CF41-42E5-B5AB-32732936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A045F-D349-4719-ABB8-05F86839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D4A06-3599-4A7B-8E12-B285ADE9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C349A-A7C6-43DC-8E54-DBBADEF2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EEAAB-449E-436B-B4C2-D01FA7A5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98892-366C-4B66-85D6-66B9FC6E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23382-54F1-4654-83F0-1FFE7CF7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3E62-F70B-482C-892C-EE8278C4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E14C0-B7C9-437B-82F1-DCF3EF18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EA0E8-2BC8-4939-BD5F-3B6B62DE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50020-271C-4763-B2D2-B87739E8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1C40F-07E9-483C-9CBF-1E1931A2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49890-6B37-40DC-9975-9076FADD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FC4A6-5717-4683-89CA-D886DBF7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50887-27C4-4E0A-BF2F-67306B23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DC81B-4ED5-4D97-A247-B57C5323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6347C-25AE-4F29-A639-8CA5E71B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64BEE-2C62-4108-ACBF-EC6FA210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DEC-7AA5-40A7-AAE2-ACFABAC5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9689B-3195-41D3-A7E5-DC971182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144EB-66E0-4249-A6D9-824011C5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EE66E-4437-41D5-BB0A-82D551AA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D8587-91BF-41E9-BEE0-1A0E902F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79F05-ED14-4E0C-80B8-0A5D4494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6F30E-EF32-482E-8DEE-22608358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4DC29-B00B-4414-BB77-D9328BA5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FB113-8A4F-40E1-B070-71311E01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D1011-C2F6-411F-AEEF-5B0BEF2E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8CA1A-C330-49DF-8741-9776DD7E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C530-338D-467C-8E28-3AB71FC3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59314-9389-46F1-9529-A8C43D80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0F90D-8C31-4F03-B40E-5E052B9D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CA70B-E87E-44EF-B669-82380B15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0CC4B-002C-4863-8511-7FDF4F31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6A2A6-4926-4B47-A6C5-0400429F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76F93-B5C1-4FDC-9BDA-09F32700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A57E8-FF8F-408C-B5B0-FED32CB7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27E77-A739-44E6-A3EF-12E3DAD8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EE080-48E7-4AA3-892D-E151F796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C0677-389D-49F1-A845-1935F882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93AC-5B7F-43B0-A491-7D65BD80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11E4E-3B83-4478-88AD-BB41C791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A4AC1-B296-4C05-8828-877B5C56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E1BC6-77E6-43A7-954F-B3C95A8F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2CC40-CA77-4308-AA7F-329EE7AE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600D6-A1FA-4FEB-95F1-467627B6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A91D6-DCD9-48B0-B920-ADDE7C79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F4A78-2E31-420D-9A32-7C156D8A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F3099-FF06-4E19-8FF0-06A09F22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1CB54-54BE-483C-BAD1-27AAF0DA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C15FF-DCCE-491C-AEFD-E5A03C31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7D1-5C76-4426-939E-A6E3AB02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CB21E-6822-429F-81C1-95E8FF6F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D1AC3-25C1-46C2-A8BF-CB8B4AC1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17C7C-315B-4A4A-8358-9A655A26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36C3D-794E-4372-B844-E39AB378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51865-F530-4EF2-9F63-55B8627A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F3B2D-4560-4CF1-B459-642689DA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F822D-6990-49A4-9844-50B316C5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6251B-F6A4-4A2C-B922-562C886E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A02D8-D681-476B-A664-E29FC60C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41724-0079-425C-9AB3-D3A9A76A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D0BC-EFEB-45B3-9050-050362B777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CA8A-4DFA-443C-AB5B-8AB6FFA883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ACEB-26E2-49B4-8F75-4B858F706A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F9EE-29ED-4CB4-924C-37B0E7B20B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B4A0-4C26-4E66-8821-3BA44BFF87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2D73-98DC-43EA-A4F5-6C928C16DF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24E8-E232-495E-B2E6-142C1CC793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9EF7-16B8-439A-B8F6-4023BDF794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A7FD-ACF4-4ED5-B03A-5B733E402A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EE17-4E9F-4743-BA59-CFE73130D8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A942-A656-4444-AB86-404F03B27F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63C9-3239-44FF-B744-C94690DB22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01DE-3BE7-4221-B698-B1D751D73E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BAEF-0BFB-4C5D-8C09-5A3D83F36A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A73C-E53E-4777-BCAB-6E7A1F8940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7FD3-CBA1-42AB-A0A5-8F364AA610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BBCA-FFC2-45A0-8B3E-570C079CCE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3416-16A2-498B-83E1-2E6430C806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6A5F-1391-4261-B87F-D043F3E4B6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F63F-D3AE-4A84-BF99-FCB4AE8314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ADAE-68EF-4DF4-9094-0897008F9B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639B-A740-4345-95DA-3105ACF7687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6E2A-D50A-4F14-A561-85D646A821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2159-A39D-4172-BA71-C713BA7E54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F373-4DA3-4357-8DC7-42F4572EC6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2696-0F7B-414F-B8F3-8A14A2D5A6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77FA-CB8A-4427-B501-344AB8D4B1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EE70-626A-4EDF-9532-BFF016403D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9D0B-11F1-4888-A7B4-F2B320456C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BC79-C7A2-48F3-9ED6-F20F64AF55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8733-DD55-4AA8-ACF1-743840BC3A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4260-A7F3-4AD9-A28E-B8AB73194C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DB43-B2D4-46E5-8465-A4142A169E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5051-1FBA-4826-9218-13F7E9CCA8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4878-DFDE-47EA-A0D0-4FB8083530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7D71-A981-4881-BF9E-6D2AB75779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C901-BC5F-41F4-9F9F-67BBF5267D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9725-89D9-4D12-AE2D-365426F32F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F770-A2F4-4DF6-9EF3-FF06D1DA04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268D-94F4-4DAA-B5D1-F95CA5389E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6158-7A0F-4521-9ED4-EBB64C9A64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92BB-23CC-4105-A502-C15D82E524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480960" y="2909880"/>
            <a:ext cx="81820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47600" y="1481040"/>
            <a:ext cx="8848800" cy="38959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3995640" y="35733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219640" y="450864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6227640" y="2637000"/>
            <a:ext cx="100836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7653240" y="446580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343080" y="909720"/>
            <a:ext cx="8458200" cy="56196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529080" cy="324000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3348000" y="18446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4960800" y="2378160"/>
            <a:ext cx="3529080" cy="4146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7265880" y="1801800"/>
            <a:ext cx="14097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581040" y="1038240"/>
            <a:ext cx="7981920" cy="47815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2887560" y="1125360"/>
            <a:ext cx="154008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799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252360" y="865080"/>
            <a:ext cx="8639280" cy="574380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3132000" y="2133720"/>
            <a:ext cx="93528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2700360" y="278136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3132000" y="350028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5"/>
          <a:stretch/>
        </p:blipFill>
        <p:spPr>
          <a:xfrm>
            <a:off x="7842240" y="2133720"/>
            <a:ext cx="67644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6"/>
          <a:stretch/>
        </p:blipFill>
        <p:spPr>
          <a:xfrm>
            <a:off x="7451640" y="2781360"/>
            <a:ext cx="67644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7"/>
          <a:stretch/>
        </p:blipFill>
        <p:spPr>
          <a:xfrm>
            <a:off x="7812000" y="3500280"/>
            <a:ext cx="67644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8"/>
          <a:stretch/>
        </p:blipFill>
        <p:spPr>
          <a:xfrm>
            <a:off x="6012000" y="501336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9"/>
          <a:stretch/>
        </p:blipFill>
        <p:spPr>
          <a:xfrm>
            <a:off x="6012000" y="54450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10"/>
          <a:stretch/>
        </p:blipFill>
        <p:spPr>
          <a:xfrm>
            <a:off x="6026040" y="587700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15960" y="333360"/>
            <a:ext cx="8142120" cy="64389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1258920" y="4437000"/>
            <a:ext cx="504180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1116000" y="5084640"/>
            <a:ext cx="504180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1042920" y="5661000"/>
            <a:ext cx="504180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1187280" y="6310440"/>
            <a:ext cx="6913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171360" y="525600"/>
            <a:ext cx="8801280" cy="62481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633600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900000" y="4149720"/>
            <a:ext cx="633600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900000" y="4797360"/>
            <a:ext cx="633600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971640" y="5473800"/>
            <a:ext cx="633564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900000" y="6135840"/>
            <a:ext cx="6336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252360" y="824040"/>
            <a:ext cx="8639280" cy="52099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900000" y="3141720"/>
            <a:ext cx="662472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684360" y="3789360"/>
            <a:ext cx="66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662472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755640" y="5157720"/>
            <a:ext cx="662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239760" y="1227240"/>
            <a:ext cx="8462880" cy="169056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2" descr=""/>
          <p:cNvPicPr/>
          <p:nvPr/>
        </p:nvPicPr>
        <p:blipFill>
          <a:blip r:embed="rId2"/>
          <a:stretch/>
        </p:blipFill>
        <p:spPr>
          <a:xfrm>
            <a:off x="1722600" y="3651120"/>
            <a:ext cx="6562440" cy="23241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2901960" y="162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3333600" y="2060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546588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5435640" y="2060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7"/>
          <a:stretch/>
        </p:blipFill>
        <p:spPr>
          <a:xfrm>
            <a:off x="7812000" y="162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8"/>
          <a:stretch/>
        </p:blipFill>
        <p:spPr>
          <a:xfrm>
            <a:off x="7956720" y="2060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9"/>
          <a:stretch/>
        </p:blipFill>
        <p:spPr>
          <a:xfrm>
            <a:off x="3635280" y="4292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0"/>
          <a:stretch/>
        </p:blipFill>
        <p:spPr>
          <a:xfrm>
            <a:off x="3708360" y="486900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11"/>
          <a:stretch/>
        </p:blipFill>
        <p:spPr>
          <a:xfrm>
            <a:off x="6804000" y="4292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12"/>
          <a:stretch/>
        </p:blipFill>
        <p:spPr>
          <a:xfrm>
            <a:off x="6443640" y="4869000"/>
            <a:ext cx="64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0:07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